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A1CB-E014-440D-8126-8A3789EC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7B33-5CEF-4C86-AAF2-03E47C0A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BC88-27F6-4412-9173-20C012C4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8F1C-F460-4A6A-BB8B-E56F52A9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892E-99DC-48F4-BB5D-D2521CE5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7C03-BE10-46D3-AFEF-D47C18B7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485F-09E2-41F6-9335-D77DF42E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C0D5-E187-4F5A-81C5-E27E30F5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396B-D18A-47FD-90B2-02A605C3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64EB-3119-4E91-9CBB-D0E0E8A5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6DBB-B493-4A9C-9955-E346EA2A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AFA4-4F8F-40A8-B23F-779A240C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ED36-4B64-4833-B33F-CB9E51D7C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Dismissal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Go in peac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may you carry God’s Wisdo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peak forth God’s W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embody God’s Prese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erever you a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name of Christ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3:09:47Z</dcterms:created>
  <dc:creator>Anon Anon</dc:creator>
  <dc:description/>
  <dc:language>en-US</dc:language>
  <cp:lastModifiedBy>Anon Anon</cp:lastModifiedBy>
  <dcterms:modified xsi:type="dcterms:W3CDTF">2005-08-09T05:27:25Z</dcterms:modified>
  <cp:revision>7</cp:revision>
  <dc:subject/>
  <dc:title>PowerPoint Presentation</dc:title>
</cp:coreProperties>
</file>